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289-3123-4E60-B34A-EBDA9893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E04-859E-402C-B4E8-04BFAFB6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3A7-AD9B-40A9-8DA5-662A5E03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7D6D-8C20-4F6F-ACC2-8489DC43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41A-3C79-4B8D-B28E-106FA6B4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ADC5-0E9E-419A-BEDC-1AC4896F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649-3D83-4886-B5D0-5AFA8BFA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D0F-CBD4-4939-A0EB-028A19DC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559-CCB4-459B-9899-4C9F4506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939-B522-4511-9E2E-1EAF9CA8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D29-A63D-4574-BA4B-DAA8C827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354-04BA-49CE-8897-483922A5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rush Script MT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4E99-1056-4446-89B5-EABA9E11696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99"/>
                </a:solidFill>
                <a:latin typeface="Brush Script MT"/>
              </a:rPr>
              <a:t>Tour of Yorkshire</a:t>
            </a: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Brush Script MT"/>
              </a:rPr>
              <a:t>7 – 12 July 2014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68360" y="6021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Brush Script MT"/>
              </a:rPr>
              <a:t>PMMM Cycles Lt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0:04:06Z</dcterms:created>
  <dc:creator/>
  <dc:description/>
  <dc:language>en-US</dc:language>
  <cp:lastModifiedBy/>
  <dcterms:modified xsi:type="dcterms:W3CDTF">2014-03-13T09:52:23Z</dcterms:modified>
  <cp:revision>1</cp:revision>
  <dc:subject/>
  <dc:title/>
</cp:coreProperties>
</file>