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1742B-48CF-4358-B82A-FDB2E1553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8FF4-592E-4623-8961-EF85F5029A9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358123-2256-4E9D-94AB-9E1E9C8C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AC62AE-DB14-42B4-8A58-CA4FF9FB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7E3767-8154-4755-A8C9-E78F086F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9DB4B6-876A-4CF9-B3C7-98A91B45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CEB361-C161-408C-A46D-DAAA9E7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CE2E0A-6A0C-4F74-880D-2D8F3F40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6FDAE7-FB99-4D8B-879C-85DED72B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D504A-88D2-40C1-9974-44804A2E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50578E-6CD9-427F-A884-7891BB12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4D888A-3EA2-4DBC-9EB5-2431E036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DC1D-6231-48E7-8A4C-946C2E38DCE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2B546C-FFA4-4793-9304-8350123A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7CF36B-29CA-43F7-92FB-47B06BE2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DA0FA4-CDFC-4D0A-B7B8-F821E54B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C4EDCC-4C7B-4D0A-969D-490E7E54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FAB479-1CDE-4EC2-8F64-4F449B6A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ABD62E-8B5E-4B58-98EC-5AD67F3B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8148B7-AFF6-451C-AD80-96DFA398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CE2EFD-7570-4529-BE7A-0D3CBCA9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B5F9B7-3082-4A47-A4BE-1890EE56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46A89A-C201-48F1-8BDF-C6E4F74B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D06A-DF22-48CF-B40E-822863D2FBE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CEE6CD-9214-4527-80C8-434F74E7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0CC1B1-4688-41AF-9A3E-9C16B076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FB6F31-9D96-45BF-AD0F-7343AF23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F92E56-B095-4EE4-BE74-87639145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7A468F-4690-4F2C-B052-6A5E656A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DC3D73-78C8-45AD-9BC7-C6B72860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0AD9A9-E8C9-4630-BB6D-D0EA5BAC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3F5EE3-6C0B-493F-952D-DBE5534D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99D217-3138-479A-ACD6-271D1137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9A978F-F30D-4FD0-A8D4-A1F99E7A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91B59-B039-4D80-B6A0-78C23E9A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17B11F-4601-4457-BC78-58A855FE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D45C43-83D7-43DE-9207-53B8B2B2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5E0E76-982A-4DDC-B42A-DB1C8F7E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E92EF-C58D-4895-ABC9-60B80CA8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AB9C6-D814-4EEC-A6BA-0877C45A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2E159-C126-4FA5-BFD6-FCECC5F7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69980-7363-4D40-858C-DF4F8E63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F26DA-091F-47F3-9105-11DCCD4B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4C481-A7BA-40FE-836C-B98657B4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0195-9E45-4709-A8B6-6CAFFBFC7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415E5-44FA-4FDE-B3C6-9F78CAA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353F3-29EC-4991-BE2C-C52A3C85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0DB91-0CBA-4B58-B835-6038F72E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F425C-4402-474E-97F5-23078A34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87DDA-8645-4D2A-8523-3CF5DCD7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563E4-25A4-4A0F-B94D-AEE2E3E9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E99D2-2271-4934-8CDF-2324C22B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1AC07-5C55-4008-A35F-C7813CB4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BE50D-8717-4585-805D-0AB0E167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00D1B-0F93-4D94-B199-B9BE455B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B0AD-A7B8-4EED-AEF1-49F9B50166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40A45-0AA7-4763-BA46-8A67D46D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D2D93-17B6-4B21-ADAD-049D1791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455EE-D354-4D06-8744-061AD2B9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D7613-1F69-482E-8F6E-AFF0F2A0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4B108-B4FC-4C6D-BB7F-9B013769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BE5DC-D312-490D-9E11-DC9E19F8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A0277-42B1-4150-97A7-B0C3A8DA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BF5DC-FC0A-4770-9C6A-CE4F2B5D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AFE9BC-4DCB-4F04-9F5C-EFAE37DE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3487C-6591-4249-A7D1-087C354B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E82F-AC9C-44C1-8F7A-996EE074C0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7F7AB-CE98-4B03-956B-9A3BF3A2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E3865-A3C7-4927-B0F0-139371E6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5584B-EB25-434D-9A19-87124A81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9425E-ED92-4478-BEA6-15EC8ABB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A4AA3-588E-4FC5-A2C9-DE640329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E0444-7E3F-42A7-9320-33D039C3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149038-14C2-43A7-BB84-832E84A5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8BDD9-FD87-4BA0-B940-5AC57DBC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C3E89-4A68-4841-B578-9FCDB980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CD117-20DC-4BA9-989A-493D26A8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525A-3560-4DDA-9B71-91EE956843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132BE-A2BA-4182-980B-C5A978B5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72C83-84AD-4E0A-A34A-F949BAE3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44B78-34F8-4FEF-A5CF-777B552A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DF7B4-5A52-4EC9-A1F0-2567B6CD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7A464-CCFC-45A5-A1E4-CEA7F41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5BA00-CACE-460D-9973-29DFB296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6D5F7-DB1B-46CD-A2EF-12C86D43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CB4FF-6F86-467C-930E-7764D2D4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6B56B-AA96-46FA-B923-7E8C2178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1EA1A-AADD-4611-B554-4AF28E89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8FB4-3BD1-4B6F-B81C-9A475BA454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D77FD-2AD1-47AB-B06B-987CECD7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86314-2058-4254-8C01-98462E54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296CB-7F9F-49F4-AFF1-997FD7EE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94AFC-F39F-445D-82CA-C481D7D2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6B1DF-A15C-4949-9C1C-126DF84D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EABD0-183C-4F28-8C97-1C6157DF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50504-C5F8-4B49-89B3-2E11632C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B446A-ADE3-472D-9D4D-B2D1CDE7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0F3C82-1A62-419F-9AAF-511E019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EF5B5-B6F6-4EC4-BC1B-2773CA66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B410-ABFD-42E4-8326-565D7E40C04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25031-0B44-43AF-9C3A-5531EE07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3B18D-99AE-435E-9F94-978177A5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63380-C0A4-4A3A-B83C-4059088E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F098A-019F-4846-B9A1-595CA730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C6AF0-160D-4A2C-A604-53264295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54599-4B45-4215-B659-32E41ADF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DF9F6-439B-4DEB-BABE-23AD70C2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BD951-616C-4454-A641-47122236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4C61EA-2AFC-4ECC-84EB-49E9007E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493FF-0FD0-4C09-A673-351F77F2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8430-1B95-46AE-8378-441EC7BE1D3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38FC8-08BB-4EA0-B33F-9496EADD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A43176-0394-4387-BA59-008457AE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344A2-6BDD-43C9-AA58-50D9960E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5864D-FC34-4712-836D-5E18DE63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5FFF0-E61B-4EFD-A667-1998C36F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E1E566-4F92-4400-94F9-A65705F1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A64D34-2C78-421B-91FE-6BBC6CF3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4EBEB7-BFA2-4352-A848-FB944051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7097E7-CA14-4E06-B7E5-ACBD7C18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A68113-0019-40A2-A331-F32548B9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3B7A-8A4A-4C7E-BB3F-5EE2AB0E096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AE5977-E831-4963-81C6-CD09D42D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6A61EF-3F21-4BA2-AA14-7D2B415B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DE1EC9-EC9A-4D9D-8CBA-6A4D0FC1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4E7973-1B43-4757-ABBB-CF08ADC6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A2BEF6-72DF-4D0E-B18C-510882A4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8ED3BC-1DD2-4DF9-9D69-65C4BBC6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7166C3-CE38-495E-A496-37710A04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508122-613A-420D-870A-8A9FA716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F05B64-4D0D-4FDD-8A0B-EEBF46DC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6DC30C-2DEC-4511-A983-53FBD681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150F-E4C7-432E-8147-4223F8F0EE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3155-13CA-47FF-AB8B-BF4B94C9FE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9AB5-04DF-4F66-BD88-8703BD3C68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8B6E-FB05-4D6E-8235-9BF1934279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078A-3144-4D87-A392-A6604195C1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D001-EC70-43EE-9819-46E2046058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EF67-A196-42B9-A3ED-F5E36E5EBA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8F67-3191-4AFB-9609-0084A388FD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2F1E-DB55-4B90-837B-9741F5675D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39DE-1514-428B-8336-E60FD17CCE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F484-C9A2-4A6F-A02D-BD746C641D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askerville Old Face"/>
              </a:rPr>
              <a:t>WHYLDE SAFARI PARK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Baskerville Old Face"/>
              </a:rPr>
              <a:t>Where wildlif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Baskerville Old Face"/>
              </a:rPr>
              <a:t>is closer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Baskerville Old Face"/>
              </a:rPr>
              <a:t>than you think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4:21:22Z</dcterms:created>
  <dc:creator>Peter Muir</dc:creator>
  <dc:description/>
  <dc:language>en-US</dc:language>
  <cp:lastModifiedBy>Peter Muir</cp:lastModifiedBy>
  <dcterms:modified xsi:type="dcterms:W3CDTF">2013-04-22T16:59:10Z</dcterms:modified>
  <cp:revision>4</cp:revision>
  <dc:subject/>
  <dc:title>WHYLDE SAFARI PARK</dc:title>
</cp:coreProperties>
</file>