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78E-FA1A-4E7B-9F9F-AA66B554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EA2-5AD0-4488-AC43-69C8C60C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F63-83E6-451F-956C-2CFE5259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43820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882240"/>
            <a:ext cx="282852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BB8-6678-4C12-A769-17EF6017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21F-C8C9-4998-948B-09F9891E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32E-913D-4AC0-AC65-B44865E5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C61-E1B3-4A01-AA13-F570FB20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B91-C3F0-43E5-840D-4B649E72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78920"/>
            <a:ext cx="87854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230-ED48-434F-B692-23AE324E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8EF-5DAE-4CCC-BCC1-F1AE09EC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88224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0F5-4A03-4B88-BD87-A16FFF60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38200"/>
            <a:ext cx="42872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882240"/>
            <a:ext cx="878544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AC1-E0F0-4097-B7C9-F3079DFB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438200"/>
            <a:ext cx="87854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9280" y="6318000"/>
            <a:ext cx="21592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9969-FF00-41DB-B105-D567643096E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8920" y="6318000"/>
            <a:ext cx="2879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37120" y="6297480"/>
            <a:ext cx="215892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3FD7-8F1C-4F9C-B298-E53861EE5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OOR PENTATHLON COMPETI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DAY JULY 2 at 2:30 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MAWR FITNESS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9:14:43Z</dcterms:created>
  <dc:creator/>
  <dc:description/>
  <dc:language>en-US</dc:language>
  <cp:lastModifiedBy/>
  <dcterms:modified xsi:type="dcterms:W3CDTF">2010-10-06T08:41:22Z</dcterms:modified>
  <cp:revision>10</cp:revision>
  <dc:subject/>
  <dc:title>INDOOR PENTATHLON COMPETITION</dc:title>
</cp:coreProperties>
</file>